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FAB9-53D2-4D96-80C0-6ED900DA3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A134-A5D3-4F0A-AB08-A8978511D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A78-0F2F-45C2-B141-35CD2A72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028-08C3-4891-8C94-7228DA8F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CAF-F1E0-4E10-B195-8E7A87E2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25C-C7D0-4D54-B916-B7C2A400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821-5E07-4901-823F-86E7F564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4BC-D4CE-486A-BFF6-AD7F0666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0A7-EAA7-4E89-A06D-377F9172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910-AD14-4AD5-8290-C51B9FC1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43F-CDEB-43E0-B85D-029F342F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054-A9F1-4B8E-9936-DECD08D6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43E-B561-45E0-B509-A2481071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D59-4E59-4C5E-B269-30EBB858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AB0A-0470-4AE1-A235-EEAC75704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lorence 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nombre es Florence, yo vivo en la South side  de  Brooklyn. Yo soy catorce ano y tiengo uno hermano y duce hermanas. Soy como feliz, and loca. Adios amigo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 Buenas dia amigas como est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8:25:39Z</dcterms:modified>
  <cp:revision>105</cp:revision>
  <dc:subject/>
  <dc:title>Profile</dc:title>
</cp:coreProperties>
</file>